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0D92-F8B3-4C1C-934B-782F5DB5B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9193-23C0-4FE8-8CDD-99AF1E26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8D56-24C9-4F1F-822B-F0B772775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6496-A94B-4807-90A8-C112D1FF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3D47-A950-4D37-BD4D-CB7DF04B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EE34-91B0-4AE6-B48C-3348BBFC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B9A3-EB6A-4C05-BD45-F6797809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D774-17AA-4FD8-B6AB-F393C505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C9A1-B04C-4118-9628-8FE77E8A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CD2F-A949-48D6-A33E-8D535F4E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5841-E4A0-447E-82F0-1D774333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84E3-14C6-4982-9D97-FA0DB89D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2C36-05CD-4C40-9AE6-E36EC567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4DED-4176-4176-B340-24FDD1CA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B32F-E037-43C5-850E-8AB7A37C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BAE7-AADD-4AA1-8EEB-D0D39111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8E18-00AF-4934-8406-AE50ED4F5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1258-C465-4982-9C66-BBE47C6C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73E7-35B1-4486-8B0B-7D4E1759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8884-3F6B-4169-BBA3-4B74FF90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8FBA-1F7D-462A-B4BC-5B0E728A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CB1B-EE0B-497D-B8F3-CB85722D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5F71-CAF0-485B-A077-7228F50B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4550-C64D-49B8-9C46-475F1BB0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8E73-36B2-445F-8FCB-1B4C3F5AC03B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B28C-6B20-4D32-BF41-E006CE0C7F83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886040" y="2773440"/>
            <a:ext cx="5371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80000"/>
                </a:solidFill>
                <a:latin typeface="Arial"/>
              </a:rPr>
              <a:t>I compiti delle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80000"/>
                </a:solidFill>
                <a:latin typeface="Arial"/>
              </a:rPr>
              <a:t>Casse Edili/Edilcasse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63C1-247F-4AED-B881-29FE6EE9EA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-148320" y="228600"/>
            <a:ext cx="94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000"/>
                </a:solidFill>
                <a:latin typeface="Tahoma"/>
              </a:rPr>
              <a:t>Acquisizione, verifica ed invio dei contributi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69960" y="1428840"/>
            <a:ext cx="8093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ersano alla banca depositaria i contributi acquisiti in ritardo e trasmettono a PREVEDI le distinte dei versamenti effettuati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gnalano a PREVEDI i dati dei lavoratori associati per i quali non compaiono contributi o compaiono solo in part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 caso di riscontrata variazione del rapporto di lavoro e di assenza di contribuzione, segnalano ai lavoratori ed alle aziende la necessità di riaccendere la contribuzion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10D9-F114-462C-9F2A-AE41E3A849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69880" y="0"/>
            <a:ext cx="800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000"/>
                </a:solidFill>
                <a:latin typeface="Tahoma"/>
              </a:rPr>
              <a:t>Acquisizione provvisoria dei contributi a PREVEDI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600200"/>
            <a:ext cx="82296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Le aziende versano alla Cassa i contributi dovuti per PREVEDI con la cadenza prevista per gli altri versamenti (mensile) e sulla base della modulistica di denuncia dei lavoratori occupati che contiene una serie di caselle* per indicare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il contributo a carico del lavorator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il contributo a carico dell’aziend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il contributo derivante dal TF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*Si deve provvedere ad inserire le caselle per il contributo volontari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3B8D-10ED-4581-9568-5CA192B4FF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91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000"/>
                </a:solidFill>
                <a:latin typeface="Tahoma"/>
              </a:rPr>
              <a:t>Acquisizione e controllo delle distinte contributive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46280" y="1481040"/>
            <a:ext cx="8092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assa acquisisce le distinte di versamento e controlla che quanto versato corrisponda al denunciato ed al dovuto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 gli operai ciò è possibile in quanto gli altri versamenti alla Cassa (ferie, gratifica, ecc.) sono percentualizzati rispetto alla retribuzione così come lo sono i contributi destinati a PREVEDI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 gli impiegati la corrispondenza è col solo denunciato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BDB8-820C-47F6-B777-E3F61B7AFD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479840" y="33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7240" y="0"/>
            <a:ext cx="776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80000"/>
                </a:solidFill>
                <a:latin typeface="Tahoma"/>
              </a:rPr>
              <a:t>Verifica della regolarità contributiva e rinciliazione dei flussi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1523880"/>
            <a:ext cx="80596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La Cassa Edile/Edilcassa controlla che per ogni lavoratore che risulta associato a PREVEDI siano stati versati i contributi dovuti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ssendo unico il bonifico effettuato da ogni singola azienda, la Cassa provvede ad assegnare ad ogni lavoratore quanto di sua spettanza rilevandolo dal modulo di denuncia “elenco dei lavoratori occupati”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Ad ogni lavoratore associato va assegnato il contributo distinto nelle varie componenti (lavoratore, azienda, TFR, volontario)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CA28-B5A0-44BA-A137-455A813775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000"/>
                </a:solidFill>
                <a:latin typeface="Tahoma"/>
              </a:rPr>
              <a:t>Versamento alla banca dei contributi e trasmissione a PREVEDI delle distinte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52320" y="1484280"/>
            <a:ext cx="82756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e Casse Edili/Edilcasse, con cadenza </a:t>
            </a:r>
            <a:r>
              <a:rPr b="1" lang="it-IT" sz="3200" spc="-1" strike="noStrike" u="sng">
                <a:solidFill>
                  <a:srgbClr val="40458c"/>
                </a:solidFill>
                <a:uFillTx/>
                <a:latin typeface="Tahoma"/>
              </a:rPr>
              <a:t>trimestrale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, versano alla banca depositaria i contributi acquisiti ed inviano, contestualmente, a PREVEDI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copia della distinta di versamento (bonifico)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distinta della ripartizione dei contributi relativi ad ogni lavoratore nelle loro componenti (lavoratore, azienda, TFR, volontaria)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7256-E4BD-40FC-9ED8-FD43AAB1E1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04840" y="228600"/>
            <a:ext cx="873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000"/>
                </a:solidFill>
                <a:latin typeface="Tahoma"/>
              </a:rPr>
              <a:t>Gestione dei contributi acquisiti in ritardo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400" y="1676520"/>
            <a:ext cx="8017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074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22074"/>
                </a:solidFill>
                <a:latin typeface="Tahoma"/>
              </a:rPr>
              <a:t>contributi acquisiti in ritardo a causa di ritardato versamento delle aziende sono versati alla banca </a:t>
            </a:r>
            <a:r>
              <a:rPr b="1" lang="en-US" sz="3200" spc="-1" strike="noStrike" u="sng">
                <a:solidFill>
                  <a:srgbClr val="022074"/>
                </a:solidFill>
                <a:uFillTx/>
                <a:latin typeface="Tahoma"/>
              </a:rPr>
              <a:t>mensilmente</a:t>
            </a:r>
            <a:r>
              <a:rPr b="0" lang="en-US" sz="3200" spc="-1" strike="noStrike">
                <a:solidFill>
                  <a:srgbClr val="022074"/>
                </a:solidFill>
                <a:latin typeface="Tahoma"/>
              </a:rPr>
              <a:t> dopo  essere stati assegnati a ciascun lavoratore beneficiario e suddivisi nelle loro componenti (azienda, lavoratore, TFR, volontaria)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5FFD-F590-49FD-82F8-A18CC72A9D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443600" y="84240"/>
            <a:ext cx="629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000"/>
                </a:solidFill>
                <a:latin typeface="Tahoma"/>
              </a:rPr>
              <a:t>Segnalazione delle anomalie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1680" y="1676520"/>
            <a:ext cx="8001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e Casse Edili/Edilcasse segnalano a PREVEDI ogni anomalia riscontrata nella contribuzione quali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differenze fra contributi dovuti e contributi versati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mancati versamenti da parte delle aziend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ritardati versamenti da parte delle aziend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1171-63DA-439F-A934-AA21728C06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200320" y="228600"/>
            <a:ext cx="47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000"/>
                </a:solidFill>
                <a:latin typeface="Tahoma"/>
              </a:rPr>
              <a:t>Ulteriori segnalazioni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1680" y="1455840"/>
            <a:ext cx="84740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e Casse Edili/Edilcasse segnalano a PREVEDI i dati relativi ai lavoratori associati per i quali, nel trimestre, non compaiono contribuzioni o compaiono parzialmente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Queste segnalazioni consentono al fondo di verificare eventuali spostamenti di tali lavoratori in territori o Casse differenti, ovvero di segnalare ai lavoratori la carenza o assenza di contributi nel periodo di riferimento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3BA6-5659-4269-AEFD-4A23D9E258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200320" y="150840"/>
            <a:ext cx="47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000"/>
                </a:solidFill>
                <a:latin typeface="Tahoma"/>
              </a:rPr>
              <a:t>Ulteriori segnalazioni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163600"/>
            <a:ext cx="7856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e Casse Edili/Edilcasse che riscontrano una variazione del rapporto di lavoro e l’assenza di contribuzione, segnalano al lavoratore ed all’azienda la necessità di riaccendere la contribuzione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36E2-8F9D-4E51-A790-4F148D763C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533520" y="2286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000"/>
                </a:solidFill>
                <a:latin typeface="Tahoma"/>
              </a:rPr>
              <a:t>Rapporti col gestore dei servizi amministrativi di PREVEDI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8560" y="1596960"/>
            <a:ext cx="8134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l gestore dei servizi amministrativi di PREVEDI fornisce alle singole Casse un apposito protocollo sugli standard tecnici, organizzativi e qualitativi delle operazioni affidate alle stesse Casse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l gestore dei servizi amministrativi fornisce alle Casse i programmi informatici, i collegamenti “on line” e le relative istruzioni atti al corretto funzionamento del sistema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4062-1874-493E-A0F3-ACF1D532FB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715760" y="380880"/>
            <a:ext cx="571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80000"/>
                </a:solidFill>
                <a:latin typeface="Tahoma"/>
              </a:rPr>
              <a:t>Le Casse Edili/Edilcasse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92160" y="3200400"/>
            <a:ext cx="7694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220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22074"/>
                </a:solidFill>
                <a:latin typeface="Tahoma"/>
              </a:rPr>
              <a:t>Promozione di PREVEDI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20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22074"/>
                </a:solidFill>
                <a:latin typeface="Tahoma"/>
              </a:rPr>
              <a:t>Acquisizione e verifica delle anagrafich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20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22074"/>
                </a:solidFill>
                <a:latin typeface="Tahoma"/>
              </a:rPr>
              <a:t>Acquisizione, verifica ed invio dei contributi                                                              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62720" y="1676520"/>
            <a:ext cx="701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0000"/>
                </a:solidFill>
                <a:latin typeface="Tahoma"/>
              </a:rPr>
              <a:t>Collaborano con PREVEDI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0000"/>
                </a:solidFill>
                <a:latin typeface="Tahoma"/>
              </a:rPr>
              <a:t>svolgendo tre fondamentali compiti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D725-3109-4179-B2D0-9DAF702337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952280" y="184320"/>
            <a:ext cx="525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000"/>
                </a:solidFill>
                <a:latin typeface="Tahoma"/>
              </a:rPr>
              <a:t>Promozione di PREVEDI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52560" y="1676520"/>
            <a:ext cx="7238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22074"/>
                </a:solidFill>
                <a:latin typeface="Tahoma"/>
              </a:rPr>
              <a:t>Le Casse Edili/Edilcasse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20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22074"/>
                </a:solidFill>
                <a:latin typeface="Tahoma"/>
              </a:rPr>
              <a:t>distribuiscono a lavoratori ed imprese il materiale promozionale fornito dal Fond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20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22074"/>
                </a:solidFill>
                <a:latin typeface="Tahoma"/>
              </a:rPr>
              <a:t>distribuiscono a lavoratori ed imprese le schede informative ed i moduli di adesione forniti dal Fond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5871-21FA-4D5D-A3E9-215FACE8FE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07720" y="304920"/>
            <a:ext cx="87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000"/>
                </a:solidFill>
                <a:latin typeface="Tahoma"/>
              </a:rPr>
              <a:t>Acquisizione e verifica delle anagrafiche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8120" y="947880"/>
            <a:ext cx="824544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22074"/>
                </a:solidFill>
                <a:latin typeface="Tahoma"/>
              </a:rPr>
              <a:t>Le Casse Edili/Edilcasse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20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raccolgono provvisoriamente i moduli di adesione a PREVEDI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20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registrano i dati anagrafici dei lavoratori aderenti a PREVEDI e delle aziende da cui dipendon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20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accertano, in caso di nuova iscrizione di un lavoratore alla Cassa, se egli è aderente a PREVEDI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20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trasmettono l’anagrafe aggiornata di lavoratori ed imprese alla banca dati di PREVEDI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20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inviano mensilmente a PREVEDI i dati relativi ad i nuovi aderenti a PREVEDI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E1F9-94DC-45EA-ADB0-D6B318EC12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304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000"/>
                </a:solidFill>
                <a:latin typeface="Tahoma"/>
              </a:rPr>
              <a:t>Raccolta provvisoria dei moduli di adesione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5200" y="1481040"/>
            <a:ext cx="857880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Il modulo di adesione si compone di quattro copie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20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l’originale viene spedito a PREVEDI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20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una copia resta al lavorator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20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una copia è trattenuta dall’aziend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20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una copia è conservata dalla Cassa Edile/Edilcass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Il modulo deve essere </a:t>
            </a:r>
            <a:r>
              <a:rPr b="1" lang="it-IT" sz="2800" spc="-1" strike="noStrike" u="sng">
                <a:solidFill>
                  <a:srgbClr val="022074"/>
                </a:solidFill>
                <a:uFillTx/>
                <a:latin typeface="Tahoma"/>
              </a:rPr>
              <a:t>sempre</a:t>
            </a:r>
            <a:r>
              <a:rPr b="0" lang="it-IT" sz="3200" spc="-1" strike="noStrike">
                <a:solidFill>
                  <a:srgbClr val="022074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firmato e timbrato dall’azienda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Se il lavoratore lo consegna all’azienda, essa provvede a fornire le copie ai destinatari; se lo consegna alla Cassa, essa provvede a farlo firmare e timbrare dall’azienda e invia l’originale al fondo e le copie ai destinatari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BCB9-722C-4ACB-A6B8-7C7B75CE5E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028880" y="22860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000"/>
                </a:solidFill>
                <a:latin typeface="Tahoma"/>
              </a:rPr>
              <a:t>Registrazione ed aggiornamento dei dati anagrafici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280" y="1557360"/>
            <a:ext cx="80168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La Cassa Edile/Edilcassa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20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trascrive i dati anagrafici contenuti nel modulo di adesione;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20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archivia i moduli;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20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aggiorna i dati anagrafici dietro comunicazione dell’azienda o del lavoratore ovvero in base a dati acquisiti dalla Cassa stessa attraverso il modello di denuncia dei lavoratori occupati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22074"/>
                </a:solidFill>
                <a:latin typeface="Tahoma"/>
              </a:rPr>
              <a:t>Per dati anagrafici si intendono: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22074"/>
                </a:solidFill>
                <a:latin typeface="Tahoma"/>
              </a:rPr>
              <a:t>nome, cognome, indirizzo, telefono,codice fiscale, del lavoratore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22074"/>
                </a:solidFill>
                <a:latin typeface="Tahoma"/>
              </a:rPr>
              <a:t>ragione sociale o denominazione, indirizzo, codice fiscale/partita IVA dell’aziend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2345-B719-4286-B7BE-322A643B8A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38768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22860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000"/>
                </a:solidFill>
                <a:latin typeface="Tahoma"/>
              </a:rPr>
              <a:t>Accertamento dell’adesione a PREVEDI dei nuovi iscritti alla Cassa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280" y="1709640"/>
            <a:ext cx="7864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2207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Quando la Cassa Edile/Edilcassa rileva la presenza di un nuovo lavoratore, provvede a consultare l’archivio di Prevedi al fine di verificare se è associato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207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In caso positivo ed in assenza dei relativi contributi, provvede a comunicare all’azienda la necessità di effettuare i versamenti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207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In caso negativo, provvede ad inviare al lavoratore il materiale informativo ed il modulo di adesion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E9A0-E1F9-44F4-92A0-D1052A2E93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2286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000"/>
                </a:solidFill>
                <a:latin typeface="Tahoma"/>
              </a:rPr>
              <a:t>Trasmissione a PREVEDI dell’anagrafe aggiornata e dei nuovi aderenti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43000" y="1981080"/>
            <a:ext cx="685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La Cassa Edile/Edilcassa trasmette </a:t>
            </a:r>
            <a:r>
              <a:rPr b="1" lang="it-IT" sz="2800" spc="-1" strike="noStrike" u="sng">
                <a:solidFill>
                  <a:srgbClr val="022074"/>
                </a:solidFill>
                <a:uFillTx/>
                <a:latin typeface="Tahoma"/>
              </a:rPr>
              <a:t>mensilmente</a:t>
            </a: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 alla banca dati di PREVEDI l’anagrafe aggiornata di lavoratori ed aziend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La Cassa Edile/Edilcassa invia </a:t>
            </a:r>
            <a:r>
              <a:rPr b="1" lang="it-IT" sz="2800" spc="-1" strike="noStrike" u="sng">
                <a:solidFill>
                  <a:srgbClr val="022074"/>
                </a:solidFill>
                <a:uFillTx/>
                <a:latin typeface="Tahoma"/>
              </a:rPr>
              <a:t>mensilmente</a:t>
            </a: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 a PREVEDI i dati relativi ai nuovi associati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2C46-A7F5-4B0A-BDD0-B1C3452369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479840" y="26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133920" y="31680"/>
            <a:ext cx="94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000"/>
                </a:solidFill>
                <a:latin typeface="Tahoma"/>
              </a:rPr>
              <a:t>Acquisizione, verifica ed invio dei contributi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1447920"/>
            <a:ext cx="8076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Le Casse Edili/Edilcasse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acquisiscono provvisoriamente i contributi a PREVEDI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acquisiscono e controllano le distinte contributiv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verificano la regolarità dei contributi e li riconcilian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verificano la regolarità dei contributi versati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versano i contributi acquisiti alla banca depositaria e trasmettono a PREVEDI le distinte dei versamenti effettuati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46080" y="62056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(segue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B5A1-6E9D-4EF0-9F39-CDF9D84FB5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8:45:31Z</dcterms:created>
  <dc:creator>rizzacasar</dc:creator>
  <dc:description/>
  <dc:language>en-US</dc:language>
  <cp:lastModifiedBy>primo</cp:lastModifiedBy>
  <dcterms:modified xsi:type="dcterms:W3CDTF">2003-05-15T14:33:16Z</dcterms:modified>
  <cp:revision>10</cp:revision>
  <dc:subject/>
  <dc:title>Presentazione di PowerPoint</dc:title>
</cp:coreProperties>
</file>