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6A11-28C8-498E-878A-FBDE7D704B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7E6-3554-4629-969D-CC9A4112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600-6008-43FE-A1DC-7EE094C6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01F-75C7-4BB7-A45A-BECB63A5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69E-F80D-49C9-B06B-D20F8D9F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F64-6383-480B-87CA-6AABEFCE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F2B-5B5E-4900-B426-B203F8FF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848-1557-4377-AC34-2A536FC3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C57-2BD5-4905-B688-2AEFA1F2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B4F-8F67-4BBA-BEB9-D8501FBA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B89-F389-4482-AC1D-392BCE72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BD5-BA41-4996-9FFB-163C62BB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A82-10A8-4DF8-BEFF-2110E3DD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876B-D08A-4F4E-A0CE-5C0F823B2A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L DISTRETTO DELLA SEDIA, QUALI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FIDE E QUALE FUTURO NELL’EPOCA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ELLA GLOBALIZZAZIONE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Il Distretto della Sedia: elementi per un piano strategico</a:t>
            </a:r>
            <a:br>
              <a:rPr sz="2800"/>
            </a:br>
            <a:br>
              <a:rPr sz="18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Fulvio Matt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6248520"/>
            <a:ext cx="37990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Corno di Rosazzo, 29 marzo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) La posta in gio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 Unicode MS"/>
              </a:rPr>
              <a:t>La quota nazionale dei comparti del Legno, del Mobile e del Legno-mobilio, per regioni e macro-ripartizioni (Italia =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219320"/>
            <a:ext cx="3479760" cy="1800000"/>
          </a:xfrm>
          <a:prstGeom prst="cloudCallout">
            <a:avLst>
              <a:gd name="adj1" fmla="val 39870"/>
              <a:gd name="adj2" fmla="val 144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Il Friuli V.G. ha la sua maggi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specializzazione nel compa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mobiliero: </a:t>
            </a:r>
            <a:r>
              <a:rPr b="1" lang="it-IT" sz="1200" spc="-1" strike="noStrike" u="sng">
                <a:solidFill>
                  <a:srgbClr val="000099"/>
                </a:solidFill>
                <a:uFillTx/>
                <a:latin typeface="Arial"/>
              </a:rPr>
              <a:t>oltre il 10% del d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99"/>
                </a:solidFill>
                <a:uFillTx/>
                <a:latin typeface="Arial"/>
              </a:rPr>
              <a:t>nazionale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99"/>
                </a:solidFill>
                <a:uFillTx/>
                <a:latin typeface="Arial"/>
              </a:rPr>
              <a:t>Praticamente tutta concent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it-IT" sz="1200" spc="-1" strike="noStrike" u="sng">
                <a:solidFill>
                  <a:srgbClr val="000099"/>
                </a:solidFill>
                <a:uFillTx/>
                <a:latin typeface="Arial"/>
              </a:rPr>
              <a:t>nell’area friul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990720"/>
            <a:ext cx="3479760" cy="1295280"/>
          </a:xfrm>
          <a:prstGeom prst="cloudCallout">
            <a:avLst>
              <a:gd name="adj1" fmla="val 22717"/>
              <a:gd name="adj2" fmla="val 216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ssieme al Veneto controlla circa 1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l’intero comparto a livello nazionale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1371600"/>
            <a:ext cx="2184120" cy="1295280"/>
          </a:xfrm>
          <a:prstGeom prst="cloudCallout">
            <a:avLst>
              <a:gd name="adj1" fmla="val 65842"/>
              <a:gd name="adj2" fmla="val 216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…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con le M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quota supera il 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La quota del Friuli V.G. e del Distretto della Sedia nei comparti del Legno, del Mobile, del Legno-Mobilio e delle Sedie (Italia = 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1219320"/>
            <a:ext cx="3479760" cy="1981080"/>
          </a:xfrm>
          <a:prstGeom prst="cloudCallout">
            <a:avLst>
              <a:gd name="adj1" fmla="val 15055"/>
              <a:gd name="adj2" fmla="val 37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Distretto della sedia v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oco meno del 40% dell’intero compar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 mobile del FVG e ci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1/3 della filiera legno reg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057400"/>
            <a:ext cx="3479760" cy="1981080"/>
          </a:xfrm>
          <a:prstGeom prst="cloudCallout">
            <a:avLst>
              <a:gd name="adj1" fmla="val 15055"/>
              <a:gd name="adj2" fmla="val 37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produzione di sedie del Distret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ale oltre il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 quella totale ital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61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 Unicode MS"/>
              </a:rPr>
              <a:t>Il peso del Distretto della Sedia sulla Manifattura, sul comparto del Mobile, del Legno, del Legno-Mobilio e Sedie (del FVG e della prov. di UD), in % degli occupat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914400"/>
            <a:ext cx="3479760" cy="1447920"/>
          </a:xfrm>
          <a:prstGeom prst="cloudCallout">
            <a:avLst>
              <a:gd name="adj1" fmla="val 15055"/>
              <a:gd name="adj2" fmla="val 70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n riferimento alla Provincia di U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Distretto della Sedia vale oltre 1/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 tutta la base industriale installata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990720"/>
            <a:ext cx="3479760" cy="1066680"/>
          </a:xfrm>
          <a:prstGeom prst="cloudCallout">
            <a:avLst>
              <a:gd name="adj1" fmla="val 15055"/>
              <a:gd name="adj2" fmla="val 1130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ale poco meno dei 2/3 d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iliera legno provincial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752480"/>
            <a:ext cx="3479760" cy="1067040"/>
          </a:xfrm>
          <a:prstGeom prst="cloudCallout">
            <a:avLst>
              <a:gd name="adj1" fmla="val -34944"/>
              <a:gd name="adj2" fmla="val 101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…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poco meno dei 3/4 del compa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 Mobile della provincia di 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105520"/>
            <a:ext cx="2489400" cy="1066680"/>
          </a:xfrm>
          <a:prstGeom prst="cloudCallout">
            <a:avLst>
              <a:gd name="adj1" fmla="val 30231"/>
              <a:gd name="adj2" fmla="val -2678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…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ovvi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quasi total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 comparto se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ovinciale e reg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362320"/>
            <a:ext cx="4267440" cy="3124080"/>
          </a:xfrm>
          <a:custGeom>
            <a:avLst/>
            <a:gdLst>
              <a:gd name="textAreaLeft" fmla="*/ 974160 w 4267440"/>
              <a:gd name="textAreaRight" fmla="*/ 3293280 w 426744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n pezzo consistente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pparato produttiv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 cui van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iunte le attività e l’occup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 esso collegate (trasport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i tecnici, consulenti,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POSTA IN GIOCO E’, dunqu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VATISSIMA 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3) L’impatto di medio periodo sulle imprese e sull’occup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L’impatto economico di medio periodo: il trend del fatturato nel periodo 2001-2005, per tipo di impresa (in % impre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4191120"/>
            <a:ext cx="3479760" cy="1828800"/>
          </a:xfrm>
          <a:prstGeom prst="cloudCallout">
            <a:avLst>
              <a:gd name="adj1" fmla="val 10675"/>
              <a:gd name="adj2" fmla="val 47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CALO della domanda colpis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utte le diverse tipologie di impres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quasi la metà dei gruppi industrial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delle imprese artigiane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e oltre 1/3 d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ltre imprese industriali del distret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1523880"/>
            <a:ext cx="3479760" cy="1219320"/>
          </a:xfrm>
          <a:prstGeom prst="cloudCallout">
            <a:avLst>
              <a:gd name="adj1" fmla="val 10675"/>
              <a:gd name="adj2" fmla="val 958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STAGNAZIONE del merc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lpisce una parte consis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le imprese (dal 35% al 38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85800"/>
            <a:ext cx="3479760" cy="1219320"/>
          </a:xfrm>
          <a:prstGeom prst="cloudCallout">
            <a:avLst>
              <a:gd name="adj1" fmla="val -9032"/>
              <a:gd name="adj2" fmla="val 130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olo una quota decis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minoritaria delle impr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chiara un aumento d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opria attiv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276720"/>
            <a:ext cx="4267080" cy="1828800"/>
          </a:xfrm>
          <a:custGeom>
            <a:avLst/>
            <a:gdLst>
              <a:gd name="textAreaLeft" fmla="*/ 974160 w 4267080"/>
              <a:gd name="textAreaRight" fmla="*/ 3292920 w 426708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e questo accade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 dell’ulteriore e cons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o intervenuto nel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Trend del FATTURATO di 182 società del Distretto: confronto 2005- 2001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in milioni di Euro correnti e costanti (var.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3141720"/>
            <a:ext cx="3708360" cy="1828800"/>
          </a:xfrm>
          <a:prstGeom prst="cloudCallout">
            <a:avLst>
              <a:gd name="adj1" fmla="val 6935"/>
              <a:gd name="adj2" fmla="val 47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fatturato delle 182 società del Distret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ra prossimo a 1 miliardo di Eu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l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l 2005 si sono persi 68 milioni di Eur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ari al -6,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1700280"/>
            <a:ext cx="3708360" cy="1297080"/>
          </a:xfrm>
          <a:prstGeom prst="cloudCallout">
            <a:avLst>
              <a:gd name="adj1" fmla="val 6935"/>
              <a:gd name="adj2" fmla="val 87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o stesso fatturato - valutato a prezz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stanti -  evidenzia però un calo di oltre 1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milioni di Euro (-16,7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64000" y="4437000"/>
            <a:ext cx="3708360" cy="1297080"/>
          </a:xfrm>
          <a:prstGeom prst="cloudCallout">
            <a:avLst>
              <a:gd name="adj1" fmla="val 53851"/>
              <a:gd name="adj2" fmla="val -617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’ stata ripetuta l’operazione toglie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una sola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società: i risultati ottenu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ono del tutto evide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1628640"/>
            <a:ext cx="2232000" cy="1297080"/>
          </a:xfrm>
          <a:prstGeom prst="cloudCallout">
            <a:avLst>
              <a:gd name="adj1" fmla="val 8750"/>
              <a:gd name="adj2" fmla="val 1145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decremen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nfatti, diventa pari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14,1% a prezzi corren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d al 23,2% a prezz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sta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0628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Le previsioni degli imprenditori sullo stato di salute della propria impresa nel 2006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per tipologia di impresa (in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28800" y="990720"/>
            <a:ext cx="3479760" cy="1828800"/>
          </a:xfrm>
          <a:prstGeom prst="cloudCallout">
            <a:avLst>
              <a:gd name="adj1" fmla="val -38958"/>
              <a:gd name="adj2" fmla="val 1319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previsione fatta per il 2006 dag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mprenditori era di DIFFICOLTA’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OLTRE la META’ delle imprese artigi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per oltre 1/4 di quelle industr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1371600"/>
            <a:ext cx="3479760" cy="1828800"/>
          </a:xfrm>
          <a:prstGeom prst="cloudCallout">
            <a:avLst>
              <a:gd name="adj1" fmla="val 10675"/>
              <a:gd name="adj2" fmla="val 47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calo consistente della dom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stera di mobili speriment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l 2006 dalle imprese d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ovincia di UD (-9,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ra evidentemente già dato per scont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a una folta platea di impr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Cosa serve per uscire dalla crisi: il parere degli imprenditori (in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35440" y="838080"/>
            <a:ext cx="3479760" cy="1828800"/>
          </a:xfrm>
          <a:prstGeom prst="cloudCallout">
            <a:avLst>
              <a:gd name="adj1" fmla="val -52462"/>
              <a:gd name="adj2" fmla="val 840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Gli imprenditori vedono con chiarez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sa serve lor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) recuperare mercato, soprattut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) innov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) migliorare la capacità di gest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propria i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64240" y="2438280"/>
            <a:ext cx="3479760" cy="1828800"/>
          </a:xfrm>
          <a:prstGeom prst="cloudCallout">
            <a:avLst>
              <a:gd name="adj1" fmla="val -116333"/>
              <a:gd name="adj2" fmla="val 37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……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...e assume rilievo la necess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rcepita dagli imprenditori artigi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 cercare un proprio merc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di innovars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4) 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) Lo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22860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conclusione … (di 15 mesi f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046160"/>
            <a:ext cx="8367840" cy="1455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 é la necessità di crescere di DIMENSIONE da parte delle aziende per poter competere a livello globale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l medio period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iò è possibile unicamente attraverso una strategia basata sull’AGGREGAZIONE (di sc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2616120"/>
            <a:ext cx="8367840" cy="11174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 IMPRESE manifestano la necessità di sperimentare nuovi approcci al MERCATO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a non riescono ad individuare una strategia vincen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3840120"/>
            <a:ext cx="8367840" cy="1455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l MERCATO è l’assillo principale delle imprese. Esse </a:t>
            </a:r>
            <a:r>
              <a:rPr b="1" i="1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non hanno un rapporto diretto con il consumatore final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essendo questo mediato da buyers che sfruttano a loro esclusivo vantaggio tale opportun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5479920"/>
            <a:ext cx="8367840" cy="7794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MPRESE chiedono alle istituzioni e al mondo bancario di essere PARTN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llo sforzo di rilancio del Distr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21276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conclusione … (di 15 mesi f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1800" y="2286000"/>
            <a:ext cx="8496360" cy="17935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 scopo centrale del progetto strategico (o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rategia A-lt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risiede nella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sibilità di intervenire nel mercato globa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l fine è quello di: a) incrementarne la penetrazione commerciale, b) aumentare la qualità e il valore aggiunto dei vari prodotti, c) aumentare la redditività delle im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440" y="4106880"/>
            <a:ext cx="8574120" cy="24688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iste una alternativa ben conosciuta e molto praticata (l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rategia B-ass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he consiste nell’infilarsi nella spirale perversa della riduzione dei costi, degli investimenti e della base industriale. Ciò porta il Distretto a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mpete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 paesi produttori a basso costo del lavor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La conseguenza di medio periodo é la sostituzione di produzione nazionale con produzione este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lla di lungo periodo: un suo forte ridimen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800" y="1066680"/>
            <a:ext cx="8515440" cy="11174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’ venuto il tempo del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gioco di squadra di livello glob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vero delle AGGREGAZIONI STRATEGICHE!!! Per le quali ci vuole, tuttavia, un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OGETTO competitivo di tipo STRATEGIC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conclusione ... (di 15 mesi f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6800" y="1052640"/>
            <a:ext cx="8275680" cy="28069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strategia Alta si candida a competere con catene internazionali come IKEA – di cui il FVG, come è noto, è largamente sub/fornitore - ma posizionandosi su una fascia di qualità superio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le strategia implica una riconversione al mercato globale: Essa si concretizza nell’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pertura di centri di commercializzazio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i mercati ricchi (USA, ma anche Francia e Germania) e su quelli che lo stanno divent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6800" y="5184720"/>
            <a:ext cx="8261280" cy="1455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a strategia si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opone direttamente alla clientela fin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-passando le costose reti di intermediazione e di commercializzazione che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stituiscono un grave fattore di impoverimento delle nostre im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6800" y="3962520"/>
            <a:ext cx="8261280" cy="11174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 un prodotto che sfrutta l’immagine del MADE in ITALY. Vendendo, però, anche una qualità superiore c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pportunamente comunicat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ltre che effettivamente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ealizz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5228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conclusione ... (di 15 mesi f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052640"/>
            <a:ext cx="8458200" cy="13194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reazione di centri di commercializzazione consente di elevare la redditività aziendale. Offre anche una interessante opportunità all’investimento finanziario agli imprenditori che pensano di dis/investire dalla Filiera e al SISTEMA BANC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492280"/>
            <a:ext cx="8458200" cy="10155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l Progetto strategico deve prevedere l’acquisizione di partner bancari e finanziari a livello locale, regionale e nazionale ma anche internazionale per rendere più solido il radicamento est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629160"/>
            <a:ext cx="8458200" cy="16239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atti, deve prevedere investimenti rilevanti per migliorare la qualità, lo standard e l’immagine dei prodotti della Filiera legno del FVG – o, addirittura, del Triveneto … più Marche -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involgendo risorse pubbliche e priva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Come si è fatto nel settore dell’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bbigliamento tradizional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portiv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gli occhial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ad esemp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373720"/>
            <a:ext cx="8458200" cy="10155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 le AGGREGAZIONI – purtroppo - non nascono spontaneamente da sole!!!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oprattutto quando i produttori sono molti, piccoli e tradizionalmente in competizione tra di loro. E ALLO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8610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proposta di OGG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066680"/>
            <a:ext cx="85341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ra serve 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un Piano STRATEGICO di RILANCIO industriale del Distretto della Sedia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(che faccia pendant con il Piano di gestione della crisi occupazionale dell’ottobre 2006). Esso dovrebb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9600" y="3013200"/>
            <a:ext cx="8529480" cy="13536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vere tutte le caratteristiche di un piano di fattibilità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definire i soggetti interessati, gli obiettivi generali e specifici da raggiungere, gli interventi concreti da realizzare, l’ammontare delle risorse finanziari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ecessarie distinte in private e pubbliche, la durata del Piano, ecc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209680"/>
            <a:ext cx="8534160" cy="7794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re su iniziativa dell’A.R. competent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l’Ente provinciale, infatti, non ha competenze in materia industrial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394160"/>
            <a:ext cx="8534160" cy="7794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evedere di essere sottoposto e discusso con le parti sociali per averne il consens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6360" y="5199120"/>
            <a:ext cx="8532720" cy="7459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ssere affidato all’ASDI del Distretto della Sed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 la sua gestione concre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1040" y="5970600"/>
            <a:ext cx="8528040" cy="7459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ssere confezionato con urgenza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a una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ruttura che ha capacità tecniche e che gode della fiducia del mondo imprenditoriale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Trend di lungo periodo dell‘export italiano di sedie, a prezzi costanti e corr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(1991 =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060640"/>
            <a:ext cx="3479760" cy="1520640"/>
          </a:xfrm>
          <a:prstGeom prst="cloudCallout">
            <a:avLst>
              <a:gd name="adj1" fmla="val 92"/>
              <a:gd name="adj2" fmla="val 2072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 seggiolai italiani colg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doppia opportun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valutazione della Li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ccordo sul costo del lav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724280"/>
            <a:ext cx="3695400" cy="1729080"/>
          </a:xfrm>
          <a:prstGeom prst="cloudCallout">
            <a:avLst>
              <a:gd name="adj1" fmla="val 12972"/>
              <a:gd name="adj2" fmla="val -115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n totale si tratta di 8/9 anni di cres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ostenuta che porta a triplicare l’ex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 valori correnti e a moltiplicarl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r 2,3 volte  a prezzi costan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692280"/>
            <a:ext cx="3479760" cy="1520640"/>
          </a:xfrm>
          <a:prstGeom prst="cloudCallout">
            <a:avLst>
              <a:gd name="adj1" fmla="val -9763"/>
              <a:gd name="adj2" fmla="val 102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la funzione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ocomoti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volta dai mercati USA e d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Ger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Trend di lungo periodo dell‘export italiano di sedie, a prezzi costanti e corr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(1991 =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4724280"/>
            <a:ext cx="3695400" cy="1729080"/>
          </a:xfrm>
          <a:prstGeom prst="cloudCallout">
            <a:avLst>
              <a:gd name="adj1" fmla="val 50087"/>
              <a:gd name="adj2" fmla="val -915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Negli ultimi 6 anni si sono persi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a prezzi correnti, il 7,4% dell’ex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mobiliero nazionale ed il 19,7%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quello delle sedie (il 16,5% 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il 27,7% a prezzi costan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692280"/>
            <a:ext cx="3479760" cy="1800000"/>
          </a:xfrm>
          <a:prstGeom prst="cloudCallout">
            <a:avLst>
              <a:gd name="adj1" fmla="val 72717"/>
              <a:gd name="adj2" fmla="val 346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A partire dal 2001,però, i seggiolai itali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soffrono di 2 malattie gravi, 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non riescono ancora a fronteggi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1) la perdita di competitiv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2) la comparsa di nuovi compet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glob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Il macro trend della Filiera del mobile: la penetrazione dei mercati esteri di PN, UD, FVG e Italia, a prezzi costanti (1991 =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1268280"/>
            <a:ext cx="3479760" cy="1800360"/>
          </a:xfrm>
          <a:prstGeom prst="cloudCallout">
            <a:avLst>
              <a:gd name="adj1" fmla="val -19981"/>
              <a:gd name="adj2" fmla="val 73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merge subito la forte divers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 performance tra le province di UD e P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e diventa ancor più eclatan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l triennio 200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4797360"/>
            <a:ext cx="3479760" cy="1800360"/>
          </a:xfrm>
          <a:prstGeom prst="cloudCallout">
            <a:avLst>
              <a:gd name="adj1" fmla="val 32939"/>
              <a:gd name="adj2" fmla="val -739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D parte da 800 ml € (1991) e arr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 toccare i 1.150 ml € (1995 e 2001),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cendere a 700 nel 2006 (-38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 prezzi correnti, nel 2006 perde il 3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l’export rispetto a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(300 ml su 1 ml €) torn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u livelli inferiori a quelli del 199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1125360"/>
            <a:ext cx="3479760" cy="1800360"/>
          </a:xfrm>
          <a:prstGeom prst="cloudCallout">
            <a:avLst>
              <a:gd name="adj1" fmla="val 66513"/>
              <a:gd name="adj2" fmla="val 51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nel 2006 si registra il “sorpass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torico da parte della provincia di P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(715 ml € di export cont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 698 di quella di U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0628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Il trend di lungo periodo dell’export di mobili del Friuli VG e delle province di UD e di PN espresso come quota % sull’export italiano  (Italia = 100% in ciascun ann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19720" y="1143000"/>
            <a:ext cx="3479760" cy="1800360"/>
          </a:xfrm>
          <a:prstGeom prst="cloudCallout">
            <a:avLst>
              <a:gd name="adj1" fmla="val 43888"/>
              <a:gd name="adj2" fmla="val 112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provincia di UD arretra più d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retti concorrenti nazionali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 mercato in contrazione, trascin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FVG in questo trend, mentr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ovincia di PN miglio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sua pos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3200400"/>
            <a:ext cx="4495680" cy="1800360"/>
          </a:xfrm>
          <a:prstGeom prst="cloudCallout">
            <a:avLst>
              <a:gd name="adj1" fmla="val 31990"/>
              <a:gd name="adj2" fmla="val 826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a segnalare l’andamento assolut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vergente dell’ultimo trienn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N = +17,5% (p. correnti) e + 11,1% (p. costant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D = -20,9% (p. correnti) e -25,2% (p. costanti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3479760" cy="1800000"/>
          </a:xfrm>
          <a:prstGeom prst="cloudCallout">
            <a:avLst>
              <a:gd name="adj1" fmla="val 185490"/>
              <a:gd name="adj2" fmla="val 154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nfine, il sorpasso nel 2006 da p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la Provincia di PN nonost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 100 ml € che ancora separav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D da PN appena nel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724280"/>
            <a:ext cx="1981080" cy="1800360"/>
          </a:xfrm>
          <a:prstGeom prst="cloudCallout">
            <a:avLst>
              <a:gd name="adj1" fmla="val 25162"/>
              <a:gd name="adj2" fmla="val 163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ale a d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- 70 ml €, con un c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 9,2% nel 20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ul 2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0628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Il trend di lungo periodo dell’export italiano di sedie, a prezzi costanti e corr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(1991 =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02060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1219320"/>
            <a:ext cx="3479760" cy="1800000"/>
          </a:xfrm>
          <a:prstGeom prst="cloudCallout">
            <a:avLst>
              <a:gd name="adj1" fmla="val 57388"/>
              <a:gd name="adj2" fmla="val 494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munque si valuti la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l’export delle sedie, è certo che sia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ornati ai livelli assoluti raggiu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8 o 10 anni fa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762120"/>
            <a:ext cx="3479760" cy="1600200"/>
          </a:xfrm>
          <a:prstGeom prst="cloudCallout">
            <a:avLst>
              <a:gd name="adj1" fmla="val 10310"/>
              <a:gd name="adj2" fmla="val 984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 domanda a cui rispond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llora è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ccettiamo la SFIDA di riguadagn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mercato ed i clienti persi o no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35440" y="4343400"/>
            <a:ext cx="3479760" cy="1600200"/>
          </a:xfrm>
          <a:prstGeom prst="cloudCallout">
            <a:avLst>
              <a:gd name="adj1" fmla="val 8851"/>
              <a:gd name="adj2" fmla="val 42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e la risposta è SI, dobbia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arci una strategia di svilup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e permetta alle nostre impre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 competere a livello GLOB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0628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Il trend di medio periodo dell’import italiano di sedie, a prezzi correnti, dal 2001 al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1219320"/>
            <a:ext cx="3479760" cy="1800000"/>
          </a:xfrm>
          <a:prstGeom prst="cloudCallout">
            <a:avLst>
              <a:gd name="adj1" fmla="val 143157"/>
              <a:gd name="adj2" fmla="val 1665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ll’ultimo triennio - e nel 20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n particolar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è diventato consistente l’effet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 sostituzione della produzione itali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n quella estera, specie ci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(ca. 100 ml €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762120"/>
            <a:ext cx="3632040" cy="1800000"/>
          </a:xfrm>
          <a:prstGeom prst="cloudCallout">
            <a:avLst>
              <a:gd name="adj1" fmla="val 33652"/>
              <a:gd name="adj2" fmla="val 960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’import cinese, infatti,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i aggiu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ll’import storico delle se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addoppiando la sua quota neg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ltimi 3 anni (dall’11,3% del 2004 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2% del 2006) e triplicand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negli ultimi 5 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4191120"/>
            <a:ext cx="3200400" cy="961920"/>
          </a:xfrm>
          <a:prstGeom prst="cloudCallout">
            <a:avLst>
              <a:gd name="adj1" fmla="val 22717"/>
              <a:gd name="adj2" fmla="val 10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       …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.. un effetto evidente d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globalizzazione del merc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delle se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62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Il trend di medio periodo dell’export italiano di sedie, dal 2001 al 200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Unicode MS"/>
              </a:rPr>
              <a:t>confronto tra i due principali paesi di destin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2360" y="112392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1219320"/>
            <a:ext cx="3479760" cy="1800000"/>
          </a:xfrm>
          <a:prstGeom prst="cloudCallout">
            <a:avLst>
              <a:gd name="adj1" fmla="val 27097"/>
              <a:gd name="adj2" fmla="val 311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’export delle sedie è mo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ncentr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l 49% è destinato a soli 3 Paes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Germania (18,3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SA (17,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rancia (13,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48120"/>
            <a:ext cx="3860640" cy="1800000"/>
          </a:xfrm>
          <a:prstGeom prst="cloudCallout">
            <a:avLst>
              <a:gd name="adj1" fmla="val 29356"/>
              <a:gd name="adj2" fmla="val 311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bbene, è accaduto c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1) è crollato il mercato USA perdendo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oli 2 anni 133 ml di €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2) si è ridimensionato fortemente 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mercato tedesco che per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oltre 70 ml di € nel 2002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 altri 25 ml nel 2005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990720"/>
            <a:ext cx="3936960" cy="2895480"/>
          </a:xfrm>
          <a:prstGeom prst="cloudCallout">
            <a:avLst>
              <a:gd name="adj1" fmla="val 29759"/>
              <a:gd name="adj2" fmla="val 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A prezzi costanti, il crollo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mercato italiano delle sed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è del 27,7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Si tratta di oltre 1/2 Md € di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perso sui 2 md € in essere nel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Il 45% della perdita totale 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attribuibile al mercato USA, il 35,8%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quello tedesco. Nel compl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questi mercati - assieme a quelli france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inglese e olandese - danno conto del 98,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dell’export totale pers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419720"/>
            <a:ext cx="3479760" cy="1800000"/>
          </a:xfrm>
          <a:prstGeom prst="cloudCallout">
            <a:avLst>
              <a:gd name="adj1" fmla="val 27097"/>
              <a:gd name="adj2" fmla="val 311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iconquistare il mercato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ichiede l’adozione di u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deguata strategia glob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3:32:31Z</dcterms:created>
  <dc:creator>RenatoC</dc:creator>
  <dc:description/>
  <dc:language>en-US</dc:language>
  <cp:lastModifiedBy>mickele</cp:lastModifiedBy>
  <cp:lastPrinted>2005-12-06T12:54:22Z</cp:lastPrinted>
  <dcterms:modified xsi:type="dcterms:W3CDTF">2007-04-02T08:25:48Z</dcterms:modified>
  <cp:revision>123</cp:revision>
  <dc:subject/>
  <dc:title>Nessun titolo diapositiva</dc:title>
</cp:coreProperties>
</file>